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46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6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42.jpeg" ContentType="image/jpeg"/>
  <Override PartName="/ppt/media/image1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5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2857680" y="-532080"/>
            <a:ext cx="3427200" cy="466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63E89A-B728-4B0D-A3E7-95A2DB7ED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7E19F-512D-4B06-9F55-8010D2C10B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0994DE-A4C7-47CD-B92D-6E0E1AA382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D175AC-AC55-469B-BFCB-A3707FE88A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CED7F1-7C6C-4F80-AA23-452957801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7EF5FA-EE89-4637-BB6E-C736BDFFB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6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A9C1D4-CCA7-4AA0-860E-B6DDD57F4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C9DEA-9804-4979-BB8D-52AF8017D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1F1FCE-8773-4F04-9DB1-3F431C9091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89E3F-ACFF-409B-B5E4-1B0F345EC6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4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83A2D5-5DE6-47D0-8DE9-255046388B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7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10B59D-4239-4B7A-A78F-D9F352CA2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0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455C79-F6CD-40F9-9C88-22F82352D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3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C76FD-E95D-45C9-9D93-74805B672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6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2449CA-F973-481A-AF0F-6125767A48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0123-D10A-45C2-B478-38FDAEAE2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54F5-3F3C-4E76-83D0-427FD504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9237-47A6-4282-A709-8B2E394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AF14-404D-4126-8261-4EF0C776C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55AC0-3B92-4067-970A-CED2978B33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922BB-B044-48A7-BC1D-3657F667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4E58D-A560-4484-88A7-DC40B413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AA5B7-20A6-4939-8876-A0F0408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BB9F3-F885-4A72-85FC-C7BDACE4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5E95-E62D-4AD0-8876-376004D2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E138C-2436-45EC-8AFF-99FD2A5D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F9A5-ADB1-4F57-B485-78C411F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9C09-B2B5-41CC-B7EE-E45664D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867B-1078-46F1-ADF4-0B8C926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50423-8FB9-4EC9-8D97-E1F5292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C21BF-81F7-475C-B77A-4B0AE0B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DA54-5303-4B90-906D-17B6C3005A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68B4-321C-4560-ABA9-DEC2F8C0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F69F-DC8A-4D7B-8E18-0203ACFE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2409-41D4-43EF-BD11-87F52BF4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C3CF-3E66-42E7-AF2B-5F1F3F8A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93F3-E6E9-48F9-B1C2-3BE681B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467EB-7B85-449E-A121-454B0D2B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C2A-2FBB-42BE-867B-D20D683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1B31C6-9EDD-4B0C-B45D-10F2805C1F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314771-DF91-4CBC-976C-2E4CF52F2294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32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8800" y="0"/>
            <a:ext cx="77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27000" y="0"/>
            <a:ext cx="7790040" cy="674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643960" y="6572160"/>
            <a:ext cx="5000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71680" y="1143000"/>
            <a:ext cx="3857400" cy="2643120"/>
            <a:chOff x="571680" y="1143000"/>
            <a:chExt cx="3857400" cy="2643120"/>
          </a:xfrm>
        </p:grpSpPr>
        <p:pic>
          <p:nvPicPr>
            <p:cNvPr id="178" name="" descr="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71680" y="1143000"/>
              <a:ext cx="385740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1680" y="1143000"/>
              <a:ext cx="3857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714920" y="3857760"/>
            <a:ext cx="4143240" cy="2714400"/>
            <a:chOff x="4714920" y="3857760"/>
            <a:chExt cx="4143240" cy="271440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4714920" y="3857760"/>
              <a:ext cx="4143240" cy="27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14920" y="3857760"/>
              <a:ext cx="414324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1214280"/>
            <a:ext cx="44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ы помним Вас, погибш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белые бантики, и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ортзал, террорис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ромкие ст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так не начавшийся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760" y="414324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т горя страшней для отц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те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оплакивать своих сын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 доч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212840" y="-103320"/>
            <a:ext cx="70722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-793800"/>
            <a:ext cx="58575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29080" y="1143000"/>
            <a:ext cx="4357800" cy="2786040"/>
            <a:chOff x="4429080" y="1143000"/>
            <a:chExt cx="4357800" cy="278604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29080" y="1143000"/>
              <a:ext cx="4357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29080" y="1143000"/>
              <a:ext cx="43578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0040" y="4286160"/>
            <a:ext cx="35006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414324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, что случилось с деть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лане  - мы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сделал это - прокл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на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безразличен к этом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челове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помог им - наш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359000" y="-103320"/>
            <a:ext cx="6784920" cy="11829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00040" y="1071720"/>
            <a:ext cx="3643200" cy="3143160"/>
            <a:chOff x="500040" y="1071720"/>
            <a:chExt cx="3643200" cy="314316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0" t="4543" r="0" b="0"/>
            <a:stretch/>
          </p:blipFill>
          <p:spPr>
            <a:xfrm>
              <a:off x="500040" y="1071720"/>
              <a:ext cx="364320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00040" y="1071720"/>
              <a:ext cx="36432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0" t="0" r="4347" b="0"/>
          <a:stretch/>
        </p:blipFill>
        <p:spPr>
          <a:xfrm>
            <a:off x="5572080" y="4786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8760" y="7858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786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858000" y="785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286080" y="500076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214200" y="5000760"/>
            <a:ext cx="2857680" cy="1571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357120" y="314316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554040" y="712800"/>
            <a:ext cx="8035920" cy="8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714760" y="314316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5643720" y="3143160"/>
            <a:ext cx="3214440" cy="1606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360360" y="426960"/>
            <a:ext cx="8570880" cy="6126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646280" y="-96840"/>
            <a:ext cx="642456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4240" y="1000080"/>
            <a:ext cx="8072640" cy="564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Хоть чашечку, стаканчик, ну хоть глоток Вод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Последнее желанье, последний крик д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Ну, дайте нам водички! Воды! Воды! Вод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А вечером, второго, заснуть все не мог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пить уж не хотели, и съели все цв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друг разговор о смерти тихонько зав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альчишка им поведал историю о 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Что ангелов красивых  недавно видел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Летели и смеялись, со шлейфами о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на детей похожи:  наверно – это мы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ы полетим далеко, на небо, прямо в 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едь умирать не страшно, не плачь, не уныв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60360" y="0"/>
            <a:ext cx="88138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92880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143160" y="928800"/>
            <a:ext cx="3143520" cy="185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572000" y="4429080"/>
            <a:ext cx="4572000" cy="2428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0" y="2714760"/>
            <a:ext cx="3214800" cy="1714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214800" y="271476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0" y="4429080"/>
            <a:ext cx="46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286680" y="271476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500040" y="-212760"/>
            <a:ext cx="8358120" cy="1541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1835280" y="1139760"/>
            <a:ext cx="5608440" cy="52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12800"/>
            <a:ext cx="2600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143240"/>
            <a:ext cx="26002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0720" y="179280"/>
            <a:ext cx="7559640" cy="6000840"/>
            <a:chOff x="720720" y="179280"/>
            <a:chExt cx="7559640" cy="60008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20720" y="179280"/>
              <a:ext cx="755964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0720" y="179280"/>
              <a:ext cx="755964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4296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3320" y="4572000"/>
            <a:ext cx="8827920" cy="2286000"/>
            <a:chOff x="103320" y="4572000"/>
            <a:chExt cx="8827920" cy="22860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3320" y="4572000"/>
              <a:ext cx="88279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03320" y="4572000"/>
              <a:ext cx="88279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143680" y="221616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14200" y="2000160"/>
            <a:ext cx="4357800" cy="2714760"/>
            <a:chOff x="214200" y="2000160"/>
            <a:chExt cx="4357800" cy="27147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033" t="11112" r="3033" b="12961"/>
            <a:stretch/>
          </p:blipFill>
          <p:spPr>
            <a:xfrm>
              <a:off x="214200" y="2000160"/>
              <a:ext cx="435780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4200" y="2000160"/>
              <a:ext cx="43578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13120" y="2000160"/>
            <a:ext cx="4287960" cy="2714760"/>
            <a:chOff x="4713120" y="2000160"/>
            <a:chExt cx="4287960" cy="271476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rcRect l="0" t="11107" r="0" b="12966"/>
            <a:stretch/>
          </p:blipFill>
          <p:spPr>
            <a:xfrm>
              <a:off x="4713120" y="2000160"/>
              <a:ext cx="428796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713120" y="2000160"/>
              <a:ext cx="42879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073160" y="-115920"/>
            <a:ext cx="73580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00760" y="-1092240"/>
            <a:ext cx="4000320" cy="7664400"/>
          </a:xfrm>
          <a:prstGeom prst="rect">
            <a:avLst/>
          </a:prstGeom>
          <a:solidFill>
            <a:srgbClr val="5ef0f7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</a:t>
            </a: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Выстрелы. Стоны. П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школу пришёл Па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икто не думал,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  гадал…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о… «Час Х» уже настал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Боевики никого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щадил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зрослых, детей он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захватили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спортзале, как в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консервной банке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закрыл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И бомбы, как игрушк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в углах разложили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7120" y="642960"/>
            <a:ext cx="4572000" cy="5929200"/>
            <a:chOff x="357120" y="642960"/>
            <a:chExt cx="4572000" cy="59292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rcRect l="6574" t="6420" r="9327" b="4737"/>
            <a:stretch/>
          </p:blipFill>
          <p:spPr>
            <a:xfrm>
              <a:off x="357120" y="642960"/>
              <a:ext cx="4572000" cy="592920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642960"/>
              <a:ext cx="4572000" cy="59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738360" y="-68400"/>
            <a:ext cx="72183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28760" y="1643040"/>
            <a:ext cx="4429080" cy="2928960"/>
            <a:chOff x="428760" y="1643040"/>
            <a:chExt cx="4429080" cy="29289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28760" y="1643040"/>
              <a:ext cx="442908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28760" y="1643040"/>
              <a:ext cx="442908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29120" y="1643040"/>
            <a:ext cx="4071960" cy="2928960"/>
            <a:chOff x="4929120" y="1643040"/>
            <a:chExt cx="4071960" cy="29289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929120" y="1643040"/>
              <a:ext cx="40719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929120" y="1643040"/>
              <a:ext cx="40719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6960" y="212760"/>
            <a:ext cx="8577360" cy="132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65040" y="4548240"/>
            <a:ext cx="8645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SimSu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4240" y="1357200"/>
            <a:ext cx="3857760" cy="3000600"/>
            <a:chOff x="714240" y="1357200"/>
            <a:chExt cx="3857760" cy="30006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714240" y="1357200"/>
              <a:ext cx="385776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4240" y="1357200"/>
              <a:ext cx="385776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43280" y="1357200"/>
            <a:ext cx="4214880" cy="3000600"/>
            <a:chOff x="4643280" y="1357200"/>
            <a:chExt cx="4214880" cy="300060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643280" y="1357200"/>
              <a:ext cx="421488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43280" y="1357200"/>
              <a:ext cx="421488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7000" y="0"/>
            <a:ext cx="7716960" cy="13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78000" y="4425840"/>
            <a:ext cx="8577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714240" y="1214280"/>
            <a:ext cx="2286000" cy="2928960"/>
            <a:chOff x="714240" y="1214280"/>
            <a:chExt cx="2286000" cy="2928960"/>
          </a:xfrm>
        </p:grpSpPr>
        <p:pic>
          <p:nvPicPr>
            <p:cNvPr id="149" name="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714240" y="1214280"/>
              <a:ext cx="228600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4240" y="1214280"/>
              <a:ext cx="22860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00080" y="-122400"/>
            <a:ext cx="7358040" cy="163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43160" y="1214280"/>
            <a:ext cx="5715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 сентября 2004 года оборвалась жизнь прекрасного человека и педагог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а Константинович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ценой собственной жизни спасавшего детей в захваченной боевиками школе Бес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Беслане в конце декабря 2009 года откроется школа-интернат со спортивным уклон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ени Иван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учителя физкультуры школы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57840" y="4000680"/>
            <a:ext cx="4071960" cy="2500200"/>
            <a:chOff x="4857840" y="4000680"/>
            <a:chExt cx="4071960" cy="25002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rcRect l="0" t="11426" r="0" b="14290"/>
            <a:stretch/>
          </p:blipFill>
          <p:spPr>
            <a:xfrm>
              <a:off x="4857840" y="4000680"/>
              <a:ext cx="407196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857840" y="4000680"/>
              <a:ext cx="40719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00040" y="4286160"/>
            <a:ext cx="44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то ж он, такой бесчелове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дь даже зверь не уб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р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всех пусть канет в пл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ч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акого не простить гр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28760" y="1143000"/>
            <a:ext cx="4500360" cy="3000240"/>
            <a:chOff x="428760" y="1143000"/>
            <a:chExt cx="4500360" cy="3000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428760" y="1143000"/>
              <a:ext cx="450036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28760" y="1143000"/>
              <a:ext cx="450036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000760" y="1143000"/>
            <a:ext cx="4000320" cy="3000240"/>
            <a:chOff x="5000760" y="1143000"/>
            <a:chExt cx="4000320" cy="30002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5000760" y="1143000"/>
              <a:ext cx="400032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00760" y="1143000"/>
              <a:ext cx="400032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0360" y="-122400"/>
            <a:ext cx="8955000" cy="1536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28760" y="414324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9080" y="4429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мы боль чужую чув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т в нас состр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м, мечтаем, буй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Есть в нашей жизни оправ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12800" y="0"/>
            <a:ext cx="7974000" cy="1500120"/>
            <a:chOff x="712800" y="0"/>
            <a:chExt cx="7974000" cy="15001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712800" y="0"/>
              <a:ext cx="797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12800" y="0"/>
              <a:ext cx="797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65040" y="4200480"/>
            <a:ext cx="8493120" cy="244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0960" y="0"/>
            <a:ext cx="8182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500040" y="1071720"/>
            <a:ext cx="3857760" cy="2928960"/>
            <a:chOff x="500040" y="1071720"/>
            <a:chExt cx="3857760" cy="2928960"/>
          </a:xfrm>
        </p:grpSpPr>
        <p:pic>
          <p:nvPicPr>
            <p:cNvPr id="172" name="" descr=""/>
            <p:cNvPicPr/>
            <p:nvPr/>
          </p:nvPicPr>
          <p:blipFill>
            <a:blip r:embed="rId5">
              <a:lum contrast="10000"/>
            </a:blip>
            <a:stretch/>
          </p:blipFill>
          <p:spPr>
            <a:xfrm>
              <a:off x="500040" y="1071720"/>
              <a:ext cx="38577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00040" y="1071720"/>
              <a:ext cx="3857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29080" y="1071720"/>
            <a:ext cx="4253040" cy="2928960"/>
            <a:chOff x="4429080" y="1071720"/>
            <a:chExt cx="4253040" cy="292896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4429080" y="1071720"/>
              <a:ext cx="42530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429080" y="1071720"/>
              <a:ext cx="425304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05:54:52Z</dcterms:created>
  <dc:creator>Капитонов</dc:creator>
  <dc:description/>
  <dc:language>en-US</dc:language>
  <cp:lastModifiedBy>Maz</cp:lastModifiedBy>
  <dcterms:modified xsi:type="dcterms:W3CDTF">2014-08-06T18:54:40Z</dcterms:modified>
  <cp:revision>231</cp:revision>
  <dc:subject/>
  <dc:title>Слайд 1</dc:title>
</cp:coreProperties>
</file>